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98F5-C339-4457-A9A3-72D5A9F4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E7EC-5C7B-44D6-A57C-012496A1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64EF-10E7-4A21-822C-EA61D1CB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5CFA-FACA-45D8-9502-A0B3AF11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A536-4A26-49C2-86E6-2F641ED1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0A21-ACEA-4769-83A7-4B5CAFA6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918C-DD6F-4A32-9FC2-A5FD7B98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8C0D-E759-48F0-9707-62E931E8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4851-2E14-4A1E-892B-350B6ECF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FF0F-DF0C-4D48-A984-65A6061C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2DDA-9D6A-495C-B42D-2A8AB653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E9DC-61E8-41DF-8645-51104A04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F5B2-C1B1-4C30-B36A-24FAC881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7FD1-67A2-4720-A0DF-C007A313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F4CA-013D-4C12-88FF-CB69A964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8B44-19B4-447C-8A8C-B7C5E981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F9EB-E523-4300-852D-FA04F633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E71-18F4-4FA1-89D2-70506444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4D29-32BA-4101-BEEA-CE585C15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5EA9-A4A8-4352-87DA-D24BA820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DBB-08CD-4716-8519-F95B18F3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BEA2-9F79-456C-BCA6-ABB1BF37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9B7C-0314-4138-93FE-22B5036A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B5A9-57F9-41E4-9EAF-32E2CB85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284E-BE6E-4BF8-A0C7-AB04DFA0044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E9F6-9CF2-4D24-AB12-71F8D154DD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xtraordinary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ay 6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ing good sent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inue 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w Gothic impression of ho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u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L-8/26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ording to a newspaper in Franklin county ohio dog names used a lot in that county include Lady, Bear Maggie and Brandy the dogs name used the most is Ma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utherford B. Hayes the nineteenth president of the United States was born in Delaware Ohio in 1822 and following a quiet dramatic election became president in March 1877 at age of 5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mnesia:Remember::___________:slee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urnful:Grief:: ____________:furio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 French Fry She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she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e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are sto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oup Activity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what it says on the card your group ge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sign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swer the questions on the worksheet. </a:t>
            </a: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13:18:49Z</dcterms:created>
  <dc:creator>VMS</dc:creator>
  <dc:description/>
  <dc:language>en-US</dc:language>
  <cp:lastModifiedBy>VMS</cp:lastModifiedBy>
  <dcterms:modified xsi:type="dcterms:W3CDTF">2009-08-26T13:30:01Z</dcterms:modified>
  <cp:revision>2</cp:revision>
  <dc:subject/>
  <dc:title>Extraordinary English</dc:title>
</cp:coreProperties>
</file>